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FFB-AB7D-4B76-AB87-17BB83F4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F8C-AEDD-4FC2-BB1B-5D42EB85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3BE-F935-4073-ADE1-AA7475A1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AD3-EB41-4561-A35D-8EBEB584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DFA-248A-48E9-AD2C-DFD3EA0D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357-8DC3-4393-8CC4-AE0664C6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619-1723-42AE-A362-30A0E62B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62E-C4C8-40B1-AE83-DA737857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D63-DED4-4309-9AEB-2AF78ED6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221-1C74-4370-AD0E-342301A0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D5C-6A17-478B-A122-F4383D4E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12B-B2BF-4DC4-88F3-B1CF7704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1D44-7811-479C-99F9-26D9F4076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easure 50mL of water and pour in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cord starting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easure 1g of Sodium Chloride and add to the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cord the temperature after 1 minu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alculate the chang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peat steps 1-5 using 2g, 3g, 4g, and 5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50mL of water and pour in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starting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.2g of Calcium Chloride and add to the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the temperature after 1 minu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chang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steps 1-5 using .4g, .6g, .8g, and 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92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92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92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92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92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192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192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192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92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192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192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192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92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192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192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192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92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92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192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192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92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192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192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192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NaC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ount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rting Temp. (C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ing Temp. (C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ange in Temp. (C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3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834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 Temp. (C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 Temp. (C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Temp. (C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6:21:29Z</dcterms:created>
  <dc:creator>default</dc:creator>
  <dc:description/>
  <dc:language>en-US</dc:language>
  <cp:lastModifiedBy>default</cp:lastModifiedBy>
  <dcterms:modified xsi:type="dcterms:W3CDTF">2008-03-07T17:45:57Z</dcterms:modified>
  <cp:revision>2</cp:revision>
  <dc:subject/>
  <dc:title>Slide 1</dc:title>
</cp:coreProperties>
</file>